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7300-436B-45B9-AE5A-70FC5BCF0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8D49-1175-4233-87F7-CDFF02149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BD5D-5127-46DC-BD3B-EA28EA1ED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40F0-71D9-4BC6-9D10-09510BEE5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2FD7-1A34-4B42-A9BF-107DAD783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1550-718B-4D9F-BC00-B5A2AE012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536D-EC11-4713-816A-6036AE64D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76DF-876E-4F33-AD57-BABAF0068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5414-FAF6-4260-988D-1360502F2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94F5-FB49-4B20-904E-493B896F5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B4C8-0CFA-4966-820D-7F59EAEC3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F873-B3EF-44FD-9546-5FDCB15A6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543800" y="132840"/>
            <a:ext cx="1447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77320" y="45684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Narrow"/>
              </a:rPr>
              <a:t>Slide </a:t>
            </a:r>
            <a:fld id="{44657482-5482-45BA-B256-AF5F45DCACE0}" type="slidenum">
              <a:rPr b="1" lang="en-US" sz="1800" spc="-1" strike="noStrike">
                <a:solidFill>
                  <a:srgbClr val="ffffcc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4120" y="2482560"/>
            <a:ext cx="23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Impact"/>
              </a:rPr>
              <a:t>LE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2960"/>
            <a:ext cx="9144000" cy="365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5530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ENTREPRENEURSHIP: Ideas i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6553080"/>
            <a:ext cx="323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 Narrow"/>
              </a:rPr>
              <a:t>© SOUTH-WESTERN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993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4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581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662796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SELECT A TYPE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Impact"/>
              </a:rPr>
              <a:t>OF OWNERSHIP</a:t>
            </a:r>
            <a:endParaRPr b="0" lang="en-US" sz="4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93800" indent="0">
              <a:spcBef>
                <a:spcPts val="799"/>
              </a:spcBef>
              <a:buNone/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n an Existing Busi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93800" indent="0">
              <a:spcBef>
                <a:spcPts val="799"/>
              </a:spcBef>
              <a:buNone/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2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wn a Franchise or Start a Busi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93800" indent="0">
              <a:spcBef>
                <a:spcPts val="799"/>
              </a:spcBef>
              <a:buNone/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.3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the Legal Form of Your Busin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apter 4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FRANCHISE OWNE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ranch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egal agreement that gives an individual the right to market a company’s products or services in a particular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nchi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erson who purchases a franchise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nchi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erson or company that offers a franchise for purc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D694-85E5-422F-A364-DB84DB1FDE08}" type="slidenum">
              <a:t>10</a:t>
            </a:fld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OPERATING COSTS OF A FRANCHISE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franchise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yalty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429E-8C4B-48A1-A623-5BFD681314CF}" type="slidenum">
              <a:t>11</a:t>
            </a:fld>
          </a:p>
        </p:txBody>
      </p:sp>
    </p:spTree>
  </p:cSld>
  <p:transition spd="med"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ADVANTAGES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F OWNING A FRANCHISE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trepreneur is provided with an established product o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hisors offer management, technical, and other as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and supplies can be less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arantee of consistency attracts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ACA8-64CB-45B4-A5E1-009AFA7E9408}" type="slidenum">
              <a:t>12</a:t>
            </a:fld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DISADVANTAGES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F OWNING A FRANCHISE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hises can cost a lot of money and cut down on pro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 of franchises have less freedom to make decisions than other entreprene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hisees are dependent on the performance of other franchisees in the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nchisor can terminate the franchise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118E-FF20-4970-9556-1825C03F7C61}" type="slidenum">
              <a:t>13</a:t>
            </a:fld>
          </a:p>
        </p:txBody>
      </p:sp>
    </p:spTree>
  </p:cSld>
  <p:transition spd="med"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EVALUATING A FRANCHISE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product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provided by franch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37C3-53C5-4156-BDC8-85444E932D84}" type="slidenum">
              <a:t>14</a:t>
            </a:fld>
          </a:p>
        </p:txBody>
      </p:sp>
    </p:spTree>
  </p:cSld>
  <p:transition spd="med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TARTING YOUR OWN BUSINESS – ADVANTAGES 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of creating something entirely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 of success/triumph when business is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C4E0-C7D6-4B97-9BDC-112C9A57711B}" type="slidenum">
              <a:t>15</a:t>
            </a:fld>
          </a:p>
        </p:txBody>
      </p:sp>
    </p:spTree>
  </p:cSld>
  <p:transition spd="med"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TARTING YOUR OWN BUSINESS – DISADVANTAGES 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demand for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ake decisions other types of entrepreneurs may not need to m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o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993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DB76-4593-40DA-BD18-AF3DF631E16D}" type="slidenum">
              <a:t>16</a:t>
            </a:fld>
          </a:p>
        </p:txBody>
      </p:sp>
    </p:spTree>
  </p:cSld>
  <p:transition spd="med"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4.3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HOOSE THE LEGAL FORM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F YOUR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70360" y="2741400"/>
            <a:ext cx="56671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different legal forms for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AB86-EA38-4410-8DEA-2BF0EF1C5058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MAJOR TYPES OF BUSINESS ARRANGEMENT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A994-D52A-450B-9A57-C05A7F025208}" type="slidenum">
              <a:t>18</a:t>
            </a:fld>
          </a:p>
        </p:txBody>
      </p:sp>
    </p:spTree>
  </p:cSld>
  <p:transition spd="med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OLE PROPRIETO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siness that is owned exclusively by one person is 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ole propriet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 proprietorship is the most common form of ownership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DFD8-1953-4C9C-9088-9A3B349F85E3}" type="slidenum">
              <a:t>19</a:t>
            </a:fld>
          </a:p>
        </p:txBody>
      </p:sp>
    </p:spTree>
  </p:cSld>
  <p:transition spd="med"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4.1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UN AN EXISTING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0360" y="2741400"/>
            <a:ext cx="56671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advantages and disadvantages of purchasing an existing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steps involved in buying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e advantages and disadvantages of joining a family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D1F1-04D3-4B23-99C1-F12FFBE3D589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OLE PROPRIETO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start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your own b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de of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ing a leg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all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ecia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5320" y="19807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/limited financi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/unlimited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managerial 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time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fringe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growth/life 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7A74-367B-44E4-9E57-941FC33047DF}" type="slidenum">
              <a:t>20</a:t>
            </a:fld>
          </a:p>
        </p:txBody>
      </p:sp>
    </p:spTree>
  </p:cSld>
  <p:transition spd="med">
    <p:wipe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ARTNE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C0B7-E606-4547-87B2-AF62D14E5AB5}" type="slidenum">
              <a:t>21</a:t>
            </a:fld>
          </a:p>
        </p:txBody>
      </p:sp>
    </p:spTree>
  </p:cSld>
  <p:transition spd="med"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ARTNERSHIP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inanci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r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/unlimited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greements amo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1DC0-A731-4718-926D-3AEC7FD9358E}" type="slidenum">
              <a:t>22</a:t>
            </a:fld>
          </a:p>
        </p:txBody>
      </p:sp>
    </p:spTree>
  </p:cSld>
  <p:transition spd="med">
    <p:wipe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ORPOR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of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corpo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4EF9-DC65-4EFD-87E6-750341E04F53}" type="slidenum">
              <a:t>23</a:t>
            </a:fld>
          </a:p>
        </p:txBody>
      </p:sp>
    </p:spTree>
  </p:cSld>
  <p:transition spd="med">
    <p:wipe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ORPOR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oney for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tu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ownership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ownership/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9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with Board of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D39D-AD1E-47BF-8C7E-591438FAEEAB}" type="slidenum">
              <a:t>24</a:t>
            </a:fld>
          </a:p>
        </p:txBody>
      </p:sp>
    </p:spTree>
  </p:cSld>
  <p:transition spd="med"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S CORPORATION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 corp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rporation organized under subchapter S of the Internal Revenue Code whose income is taxed as a partn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7A86-ED8F-4BEE-A357-C77701EC7239}" type="slidenum">
              <a:t>25</a:t>
            </a:fld>
          </a:p>
        </p:txBody>
      </p:sp>
    </p:spTree>
  </p:cSld>
  <p:transition spd="med"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7150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HARACTERISTICS OF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THE LEGAL FORMS OF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305280" y="33861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e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1040" y="378288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isions made by one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000" y="417816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w initi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5640" y="457344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mited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6000" y="49687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mited 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7080" y="5364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ility to rais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280" y="575928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uble taxation of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09680" y="1371960"/>
            <a:ext cx="8672760" cy="4865040"/>
            <a:chOff x="409680" y="1371960"/>
            <a:chExt cx="8672760" cy="4865040"/>
          </a:xfrm>
        </p:grpSpPr>
        <p:grpSp>
          <p:nvGrpSpPr>
            <p:cNvPr id="152" name=""/>
            <p:cNvGrpSpPr/>
            <p:nvPr/>
          </p:nvGrpSpPr>
          <p:grpSpPr>
            <a:xfrm>
              <a:off x="4203360" y="1371960"/>
              <a:ext cx="4879080" cy="4865040"/>
              <a:chOff x="4203360" y="1371960"/>
              <a:chExt cx="4879080" cy="48650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4203360" y="1371960"/>
                <a:ext cx="2133000" cy="4865040"/>
                <a:chOff x="4203360" y="1371960"/>
                <a:chExt cx="2133000" cy="4865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20336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8900000">
                  <a:off x="3990960" y="2209320"/>
                  <a:ext cx="255852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Sole Proprietorshi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114160" y="1371960"/>
                <a:ext cx="2133000" cy="4865040"/>
                <a:chOff x="5114160" y="1371960"/>
                <a:chExt cx="2133000" cy="4865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11416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900000">
                  <a:off x="4901760" y="2209320"/>
                  <a:ext cx="255852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artnershi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009480" y="1371960"/>
                <a:ext cx="2133000" cy="4865040"/>
                <a:chOff x="6009480" y="1371960"/>
                <a:chExt cx="2133000" cy="48650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00948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8900000">
                  <a:off x="5797080" y="2209320"/>
                  <a:ext cx="255852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Corpor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949080" y="1371960"/>
                <a:ext cx="2133360" cy="4865040"/>
                <a:chOff x="6949080" y="1371960"/>
                <a:chExt cx="2133360" cy="4865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949080" y="3168360"/>
                  <a:ext cx="456840" cy="306864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900000">
                  <a:off x="6736680" y="2209320"/>
                  <a:ext cx="2558880" cy="45720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3889440"/>
                      <a:tab algn="ctr" pos="5715000"/>
                      <a:tab algn="ctr" pos="754056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S Corpor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409680" y="2852280"/>
              <a:ext cx="7314840" cy="3364200"/>
              <a:chOff x="409680" y="2852280"/>
              <a:chExt cx="7314840" cy="3364200"/>
            </a:xfrm>
          </p:grpSpPr>
          <p:sp>
            <p:nvSpPr>
              <p:cNvPr id="166" name=""/>
              <p:cNvSpPr/>
              <p:nvPr/>
            </p:nvSpPr>
            <p:spPr>
              <a:xfrm>
                <a:off x="410760" y="2852280"/>
                <a:ext cx="175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889440"/>
                    <a:tab algn="ctr" pos="5715000"/>
                    <a:tab algn="ctr" pos="754056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00"/>
                    </a:solidFill>
                    <a:latin typeface="Arial Narrow"/>
                  </a:rPr>
                  <a:t>FEATUR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9680" y="343188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9680" y="382896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9680" y="422748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9680" y="462420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9680" y="502272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9680" y="541944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9680" y="581796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9680" y="6216480"/>
                <a:ext cx="73148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4280040" y="3879720"/>
            <a:ext cx="274320" cy="27468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80040" y="3494160"/>
            <a:ext cx="1188720" cy="274680"/>
            <a:chOff x="4280040" y="3494160"/>
            <a:chExt cx="1188720" cy="274680"/>
          </a:xfrm>
        </p:grpSpPr>
        <p:sp>
          <p:nvSpPr>
            <p:cNvPr id="177" name=""/>
            <p:cNvSpPr/>
            <p:nvPr/>
          </p:nvSpPr>
          <p:spPr>
            <a:xfrm>
              <a:off x="4280040" y="3494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94440" y="3494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280040" y="4286160"/>
            <a:ext cx="1188720" cy="274680"/>
            <a:chOff x="4280040" y="4286160"/>
            <a:chExt cx="1188720" cy="274680"/>
          </a:xfrm>
        </p:grpSpPr>
        <p:sp>
          <p:nvSpPr>
            <p:cNvPr id="180" name=""/>
            <p:cNvSpPr/>
            <p:nvPr/>
          </p:nvSpPr>
          <p:spPr>
            <a:xfrm>
              <a:off x="4280040" y="4286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94440" y="4286160"/>
              <a:ext cx="27432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80040" y="5091120"/>
            <a:ext cx="1188720" cy="274320"/>
            <a:chOff x="4280040" y="5091120"/>
            <a:chExt cx="1188720" cy="274320"/>
          </a:xfrm>
        </p:grpSpPr>
        <p:sp>
          <p:nvSpPr>
            <p:cNvPr id="183" name=""/>
            <p:cNvSpPr/>
            <p:nvPr/>
          </p:nvSpPr>
          <p:spPr>
            <a:xfrm>
              <a:off x="4280040" y="5091120"/>
              <a:ext cx="274320" cy="27432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4440" y="5091120"/>
              <a:ext cx="274320" cy="27432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75360" y="5878440"/>
            <a:ext cx="274680" cy="27468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75360" y="4692600"/>
            <a:ext cx="1209600" cy="274680"/>
            <a:chOff x="6075360" y="4692600"/>
            <a:chExt cx="1209600" cy="274680"/>
          </a:xfrm>
        </p:grpSpPr>
        <p:sp>
          <p:nvSpPr>
            <p:cNvPr id="187" name=""/>
            <p:cNvSpPr/>
            <p:nvPr/>
          </p:nvSpPr>
          <p:spPr>
            <a:xfrm>
              <a:off x="6075360" y="469260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0280" y="469260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075360" y="5479920"/>
            <a:ext cx="1209600" cy="274680"/>
            <a:chOff x="6075360" y="5479920"/>
            <a:chExt cx="1209600" cy="274680"/>
          </a:xfrm>
        </p:grpSpPr>
        <p:sp>
          <p:nvSpPr>
            <p:cNvPr id="190" name=""/>
            <p:cNvSpPr/>
            <p:nvPr/>
          </p:nvSpPr>
          <p:spPr>
            <a:xfrm>
              <a:off x="6075360" y="547992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5479920"/>
              <a:ext cx="274680" cy="274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CE57-4899-4ADC-B0DF-C058ADD027A0}" type="slidenum">
              <a:t>26</a:t>
            </a:fld>
          </a:p>
        </p:txBody>
      </p:sp>
    </p:spTree>
  </p:cSld>
  <p:transition spd="med"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ADVANTAGES OF BUYING AN EXISTING BUSIN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ing business already has customers, suppliers, and proce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ler of a business may train a new ow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rior records of revenues, expenses, and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rrangements can be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356F-14EC-44B2-8BD8-628FDC7AD572}" type="slidenum">
              <a:t>3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DISADVANTAGES OF BUYING AN EXISTING BUSIN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usinesses are for sale because they are not making a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ous problems may be inher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08A2-8787-488E-996B-F74F9B2BE0B0}" type="slidenum">
              <a:t>4</a:t>
            </a:fld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STEPS TO PURCHASE A BUSINESS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specific objectives about the kind of business you want to buy, and identify businesses for sale that meet your objecti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with business sellers or brokers to investigate specific opportun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during business hours to observe the company in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A169-9666-42AC-A261-522F5DAB40B9}" type="slidenum">
              <a:t>5</a:t>
            </a:fld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THE STEPS TO PURCHASE A BUSINESS? </a:t>
            </a:r>
            <a:r>
              <a:rPr b="0" lang="en-US" sz="2400" spc="-1" strike="noStrike">
                <a:solidFill>
                  <a:srgbClr val="000099"/>
                </a:solidFill>
                <a:latin typeface="Impact"/>
              </a:rPr>
              <a:t>(cont.)</a:t>
            </a:r>
            <a:endParaRPr b="0" lang="en-US" sz="2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the owner to provide you with a complete financial accounting of operations for at least the past three y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for important information in written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you would finance the busin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expert help to determine a price to offer for the bus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1929-7C3E-40D2-9D4D-009D5298297F}" type="slidenum">
              <a:t>6</a:t>
            </a:fld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HAT ARE SOME ADVANTAGES TO ENTERING A FAMILY BUSINESS ?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and sense of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mains in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enjoy working with re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benefit others you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3C8B-13C5-463A-874A-E6E93B311E8F}" type="slidenum">
              <a:t>7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WHAT ARE DISADVANTAGES OR CONCERNS ABOUT ENTERING A FAMILY BUSINESS ?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management positions are often held by family members who may not b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freedom to make decisions on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continue if no one to take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separating business and privat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9F03-8EE7-4933-9AC8-5ABB6B8FD948}" type="slidenum">
              <a:t>8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Lesson 4.2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WN A FRANCHIS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OR START A BUSINES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70360" y="2741400"/>
            <a:ext cx="566712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franchise own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advantages and disadvantages of starting a new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1680" y="2666880"/>
            <a:ext cx="3455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Impact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8743-AC1B-4AFD-9263-3E0455A0FA3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3:54:40Z</dcterms:created>
  <dc:creator>M. C. McLaughlin</dc:creator>
  <dc:description/>
  <dc:language>en-US</dc:language>
  <cp:lastModifiedBy>agalaro</cp:lastModifiedBy>
  <dcterms:modified xsi:type="dcterms:W3CDTF">2007-10-15T20:30:21Z</dcterms:modified>
  <cp:revision>20</cp:revision>
  <dc:subject/>
  <dc:title>Chapter 4 SELECT A TYPE OF OWNERSHIP</dc:title>
</cp:coreProperties>
</file>